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6764A-A3A0-4FEE-814A-DEC375AE0C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866656-B622-4AA6-9232-D2E551414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6EE57C-0AE8-41DA-8205-C774C11477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D0A4A0-06DB-4CAE-A9DD-2539738EE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542D7-BAD4-43EE-86BD-985E2C40DC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87793E-356B-4576-A78E-F9B85BB70A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951CC2-2F3E-431A-AE6D-3C23A4AAA0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1669DD-F131-47A4-8375-9361523C1D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E2B22E-C6FB-412C-80FC-EDD11373F0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BCC0AD-2BDB-4FAF-BBEA-E935650AFA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E0263B-6791-4069-AEE0-033F0634EC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EB5-5F27-4544-BB97-80E40B9E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761-59B3-47E1-BC09-3F1FB34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0B6-C035-4AD6-B0A3-B0FA3034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CEF-A601-4BD4-9F29-8B97A71E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7C33-B017-404A-8CF7-82E5E2A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091B-B79E-4B8F-B5CA-07EAAD7E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064B-372E-46B1-BA40-8B0A50FE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0372-D5E3-4D3C-9FD0-B0C0EF53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7DE-88D4-465F-812F-21F4C3A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9AE6-6E7F-4514-BD31-03F8DAA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D1BA-668B-4F19-A3CF-A94144B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FC7-C120-4B0E-BA4E-FCAF8C1E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7823-7FE6-4443-A22E-6214B37C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376A-C68F-4674-BF1F-8125EDD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860-0E51-4C29-9DE5-1212C73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DEF1-E8E8-4FC4-8631-CE8F68C6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B33-F78B-4052-81DC-A8E73372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25C-AA76-4D9D-9203-B3A03998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AFC-ADCC-4F40-A437-09304DF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09D-6510-4603-BC19-7D8AB3DB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BA9-9E62-4B22-9696-076D8346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3F6-5AC2-453A-9041-6DE1DA33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FC7-4231-46DE-8B86-6D55C7E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7E5-65B8-4494-8BF9-CE675E04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 txBox="1"/>
            <p:nvPr/>
          </p:nvSpPr>
          <p:spPr>
            <a:xfrm>
              <a:off x="5386680" y="1590480"/>
              <a:ext cx="3744360" cy="5259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8410680" y="6480"/>
              <a:ext cx="16819920" cy="136890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CB68F-0BC2-4B32-933A-2E970DF356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 txBox="1"/>
            <p:nvPr/>
          </p:nvSpPr>
          <p:spPr>
            <a:xfrm>
              <a:off x="3270600" y="2696760"/>
              <a:ext cx="5871600" cy="4147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utoShape 3"/>
            <p:cNvSpPr/>
            <p:nvPr/>
          </p:nvSpPr>
          <p:spPr>
            <a:xfrm>
              <a:off x="-7761240" y="1452600"/>
              <a:ext cx="13451040" cy="107838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5F4C5F-BA43-4968-8540-C5EC489168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0880" y="11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 Black"/>
                <a:cs typeface="Lucida Sans Unicode"/>
              </a:rPr>
              <a:t>كانت هناك أربعة شموع موقدة و المحيط حولها هادئ حتى أننا يمكن أن نسمع حوار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ذة الشمعة أٌشعلت الثالث من أكتوبر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ناك شخص لديه الرجاء و الحب و الايمان و يريد السلام يرسلها لك الان فأرسلها أنت أيضا لأصدقائ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فعليك أن تتمنى أن لا تنطفئ شمة الرجاء و الحب و الايمان و السلام و الصداقة فى حيات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ا تنطفى الشمعة حين تنير أخرى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الله يبارك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79280" y="0"/>
            <a:ext cx="8736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قالت الاولى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أنا شمعة السلام و برغم نورى فالناس لا تعرف أن تقتنى السلام و تجهلنى موقدة دائما فبدأت شعلتها تخفت تدريجيا حتى أنطفئ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8920" y="69840"/>
            <a:ext cx="8910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قالت الثانية أنا أُدعى الايمان و لكنى غير ضرورى فى حياة أحد فالبشر لا يريدون أن يعرفوا شئ عن الله لذلك لا فائدة من نورى لماذا أظل موقدة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جاء ريح فطفأ شعلتها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214200"/>
            <a:ext cx="91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فى حزن شديد و بصوت منخفض قالت الشمعة الثالثة أنا الحب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ليس لدى القوة لأظل مشتعلة فالبشر لا يتركوننى فهم لا يبحثون سوى عن أن ينظر أحدهم نفسه و ينسوا من هم حولهم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أنطفأت هى الاخر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65120" y="1015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و فجأة جاء طفل و رأى الثلاث شموع مطفأة</a:t>
            </a: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ما يعنى هذا؟ يجي أن تظلوا مشتعلين و تحترقوا حتى النهاية</a:t>
            </a: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160720" y="360360"/>
            <a:ext cx="414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بدأت الشمعة الرايعة فى الحديث</a:t>
            </a: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لا تخف يا ابنى طالما أنا مشتعلة حتى الان فيمكننا أن نشعل باقى الشمو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380960" y="3200400"/>
            <a:ext cx="527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 u="sng">
                <a:solidFill>
                  <a:srgbClr val="ff0000"/>
                </a:solidFill>
                <a:uFillTx/>
                <a:latin typeface="Arial"/>
              </a:rPr>
              <a:t>وقفة للتأ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نطفئ شعلة السلام و الايمان و المحبة حتى فى هذا الحال لم نفقد كل شئ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ن شئ هام يظل بداخل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 هذا يجب أن يظل فوق ال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00000" y="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 Black"/>
              </a:rPr>
              <a:t>فأخذ الطفل الشمعة الرابعة و هى شمعة الرجاء و أشعل الثلاثة شموع الاخر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6394320" y="360036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61800" y="1792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تكن شمعة الامل موقدة دائما بداخلك فهى النور الذى يرشدنا فى الظلام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فطريق السعادة المحدد يجب أن يكون مغطى بالرج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07480" y="5959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سل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86080" y="59594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400" spc="-1" strike="noStrike">
                <a:solidFill>
                  <a:srgbClr val="00b8ff"/>
                </a:solidFill>
                <a:latin typeface="Arial"/>
              </a:rPr>
              <a:t>الايم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77960" y="60008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ح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50600" y="5929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008000"/>
                </a:solidFill>
                <a:latin typeface="Arial"/>
              </a:rPr>
              <a:t>الرج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75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75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9640" y="42876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لا تدق السعادة بابنا كل يوم و لكن لكى تحصل عليها يجب أن تبحث عنها دون كلل و يكون لديك الشجاعة أن يكون بداخلك تلك السعاد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4680" y="594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i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419640" y="59594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66080" y="6019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4368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é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4714920" y="271476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8"/>
          <a:stretch/>
        </p:blipFill>
        <p:spPr>
          <a:xfrm>
            <a:off x="6429240" y="2286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New</cp:lastModifiedBy>
  <dcterms:modified xsi:type="dcterms:W3CDTF">2016-04-12T08:14:17Z</dcterms:modified>
  <cp:revision>26</cp:revision>
  <dc:subject/>
  <dc:title>Esperança... o que seria de nós sem ela?</dc:title>
</cp:coreProperties>
</file>